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39B-135A-45C3-AF91-A5E229C6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EE1-3F59-485C-8411-953D1AD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4E8-85CC-481F-9417-1C3204C8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43B-ACEA-4232-BECB-9061B6C5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3198-112A-4EEB-BE0C-6BB4E3EF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D31-FC80-4E7B-8E8D-5294053D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C4D-F1DC-4945-8FBA-25E585AD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212-CD62-435E-9184-EB3B278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91C-D121-43DA-B22A-2B2564B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DE78-0AD0-4DFB-8560-7EFA2F6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AFB-8DA2-455B-AB1A-E031FA1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2E9-E68B-47BB-9854-4A3A2D42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22E1-2362-40CE-9FD0-DFFD958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06AA-E4A5-40DF-BBFF-D0D696B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79F9-BC34-4497-8DBA-5DA2C32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420-B10C-4EE9-A8BC-5872B0EE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A7C1-3D81-4D1D-B609-5E8C2836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679B-EA1A-4B51-BE26-F4763953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FB74-6847-4881-BB5C-279DA877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2C3D-8578-44E6-94EA-9F68FB1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29CE-BD05-4E7C-8BF8-8566D88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40B3-088A-478A-8A44-6137AD3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2DA-832B-4C95-8AE7-9E20577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10D2-08F3-416C-AB8C-DB0453DD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B9A8-6E7C-417D-9179-D2AED0A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D93A-8F9D-443F-B7E5-DAA1D73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8A5A-CE52-4247-BF4C-0AC19D35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5F3D-3E95-4DA5-997D-D2DDF5A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01B0-4247-4EED-AA87-B9500AE0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0964-B0F8-4E2B-9053-4124C780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ECC1-284C-4D8A-B49D-89F6CEDD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D398-A0CE-4D1A-8227-65F4168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D123-54C9-457F-92B4-96312C1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EC3-B5AA-4757-A392-89EB13A7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2EA7-2B93-4C54-8870-F6CF712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F3A6-00B8-4836-B2AC-4A509110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7DBB-496C-4C3D-B765-5A0FEAE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00AD-3A66-4743-B22B-C61448A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37D8-7EB9-47B6-81D5-517070AE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56F3-45D0-458B-BD04-D1C005CA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99F5-0B75-49C9-83E0-31C459A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6D2C-87A3-425B-A211-EC7AD28D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51B5-A848-48C0-AFA6-117BC81F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6522-9AC4-41B4-B413-E296F08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C0E-8F9C-4BA3-8D14-4EAA2F5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B481-19C7-412F-806E-A80DBA73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25D3-245A-4BBF-818C-81B1D97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49BDE-8650-4AFE-99CB-3805C46A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201A-5F1E-4EC8-B76D-F3217C52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28D9-5693-49B9-8312-BDA4564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4794-980B-4AF9-9C0F-AE07E26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665B-B433-4D05-A4C0-6B733F9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2CA9-8B1B-427D-B72F-CE40F11D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2029B-C3D7-44F4-8C45-4F153E68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FA1C-3761-4BBF-A158-AD1AECAA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972-4F85-4728-A58A-1B13442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7252-F164-4DB5-9219-B19C4F86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18A-1E93-4AF8-BF52-947E26DB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ECF-8DE7-433C-B451-5524BC8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B6E-F032-4B6E-88DF-A807C5A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6787-FE18-44C1-9462-92D198B89432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91CD-7B35-442C-B80C-47377811FD88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37B-B429-401D-B990-6833C98744F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E034-C9B9-4546-BA1D-14180D72B975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C332-4E68-4C5C-8AA0-7663A8B631B1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200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Impact"/>
              </a:rPr>
              <a:t>Palabras afirmativas y Negativas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Sra. Prine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0" name="j0211923.wav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j0211939.wav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j0211940.wav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4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Práctica…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 don’t like tea either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No me gusta el té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tampoco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 never want any of those cak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Nunca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quiero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 ninguno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de estos pasteles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No one knows how to set a table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Nadie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sabe poner la mesa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What are affirmative and negative words?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ffirmative and negative words help us talk about an indefinite or negative situation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The students went to some restauran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y also add emphasis to the situation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I never want any of those banana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Affirmative Word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o= Something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uien= Someone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ún/alguno(a)= Some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Siempre= Always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También= Also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How to use affirmative words…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Here are a couple examples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 waiter might ask his tab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¿Quiere algo de tomar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Would you like something to drink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You might respond: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No quiero nada en este momento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I don’t want anything in this moment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¡OJO!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When alguno(a) and ninguno(a) must match the gender of the noun they replace or modify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 and ninguno have different forms when used before masculine singular noun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lgún         Ninguno 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ningú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as chicas quieren algún postre, pero Carlos no quiere ningún postre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Práctica…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fter eating, I always want something swee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Después de comer,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siempre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quiero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o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dulce</a:t>
            </a: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Laura goes to some restauran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Laura va a 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ún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restaurante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Does someone want coffee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¿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uien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quiere café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Negative Word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Here is a list of negative words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ada= Nothing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adie= No one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ingún/Ninguno(a)= None, not any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unca= Never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Tampoco= Neither, either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How to use negative words…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f a verb is preceded by “no,” words that follow MUST be negative (if expressing a negative situation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member, a double negative is CORRECT in Spanish and is required when “no” precedes the verb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No quiero nada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03030"/>
                </a:solidFill>
                <a:latin typeface="Times New Roman"/>
              </a:rPr>
              <a:t>I don’t want anything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ut, if a negative word, such as nunca or nadie, comes before the verb, a second negative is not need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Nadie quiere postre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No one wants dessert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Remember this?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When alguno(a) and ninguno(a) must match the gender of the noun they replace or modify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 and ninguno have different forms when used before masculine singular noun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lgún         Ninguno 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ningú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as chicas quieren algún postre, pero Carlos no quiere ningún postre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5:41Z</dcterms:created>
  <dc:creator>Prine, Stephanie</dc:creator>
  <dc:description/>
  <dc:language>en-US</dc:language>
  <cp:lastModifiedBy>Prine, Stephanie</cp:lastModifiedBy>
  <dcterms:modified xsi:type="dcterms:W3CDTF">2013-09-18T14:10:46Z</dcterms:modified>
  <cp:revision>20</cp:revision>
  <dc:subject/>
  <dc:title>Palabras afirmativas y Negativas</dc:title>
</cp:coreProperties>
</file>